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7523-CE45-4BC6-963C-A5DDD2306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F9D3-FE0E-4A08-AAA4-2C5D0738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1617-03D0-4392-9DC6-342A223F9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8844-1153-4D4E-9889-65D844175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B5B2-153A-49B3-B1E4-14138B88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8348-EE32-4482-9F07-3E1EBBF1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015B-E891-44DE-B5A8-5E558262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A88E-74EC-496D-9210-A1ECA7F7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C161-2DA7-4D3E-BF17-655DB202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D03C-7D8D-4D6B-AD57-2665FF37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9F11-1C51-407B-AA38-6AD9ECBA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A283-B382-47C0-89C5-F9A474E1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45CA-2558-4B3F-A55C-FDCEF0155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Медицина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заснована на доказима 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– 5. недељ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е резултати валидне и значајне студије могу применити код нашег пацијент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Како израчунати ННТ за нашег пацијент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Прво дефинисати колико пута је наш пацијент мање или више склон исходу који се помиње у студиј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На приме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наш пацијент поред дијабетеса узима и изониазид па је око два пута више склон да развије неуропатиј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Сада ННТ треба поделити с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 :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у нашем примеру то ј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4.7/2 = 7.3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680400" y="2491920"/>
            <a:ext cx="809640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У ДОКАЗИ О ТРЕТМАН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ВАЛИД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ЗНАЧАЈНИ И ПРИМЕНЉИВ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је клиничка студија валидн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Да ли су пацијенти по принципу случајног избора сврстани у експерименталну и контролну груп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Да ли су сви пацијенти који су ушли у студију узети у обзир приликом извођења закључа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и да ли су анализирани у групама у којима су били на почетк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-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губитак највише д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Да ли је студија била двоструко слеп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Да ли су групе биле третиране на исти начин изузев третмана који се испиту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Да ли су групе биле сличне на почетку студи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у резултати клиничке студије значајн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мањење релативног риз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мањење апсолутног риз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рој болесника који треба да примају нови лек да би се код једног од њих спречио негативан исход  - </a:t>
            </a:r>
            <a:r>
              <a:rPr b="0" lang="en-US" sz="3200" spc="-1" strike="noStrike">
                <a:solidFill>
                  <a:srgbClr val="000000"/>
                </a:solidFill>
                <a:latin typeface="YUDutchR"/>
              </a:rPr>
              <a:t>Number Needed to Trea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ННТ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у резултати клиничке студије значајн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79280" y="1484280"/>
          <a:ext cx="8785440" cy="5321160"/>
        </p:xfrm>
        <a:graphic>
          <a:graphicData uri="http://schemas.openxmlformats.org/drawingml/2006/table">
            <a:tbl>
              <a:tblPr/>
              <a:tblGrid>
                <a:gridCol w="1224000"/>
                <a:gridCol w="1584360"/>
                <a:gridCol w="1584360"/>
                <a:gridCol w="1371600"/>
                <a:gridCol w="1371600"/>
                <a:gridCol w="1649520"/>
              </a:tblGrid>
              <a:tr h="1289160">
                <a:tc rowSpan="2"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сталост неуропат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стало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ањење релативног риз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ањење апсолутног риз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ј болесника које треба лечити да би се спречио 1 негативан исх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ичан инсулински третман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сталост у контрол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нзиван инсулински третман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ксп. груп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RR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-E)/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R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-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NT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AR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студиј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.6%-2.8%)/9.6% =7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6%-2.8% = 6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6.8% = 14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потетички случај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6%-28%)/96% =7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%-28% = 6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68% = 1.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7840"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потетички случај 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2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.00096%-0.00028%)/0.00096% = 7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96%-0.00028% = 0.0006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0.00068% = 147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у резултати клиничке студије значајн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600200"/>
          <a:ext cx="8229600" cy="47419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633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Обоље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Интервенц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Исход који се спреча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Трајање праћењ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Дијабетес инсулин-завис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Интензиван инсулински режи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еуропат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.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Акутни инфаркт миокар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Стрептокиназа и аспир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См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Трудница са еклампсиј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и.в.МгСО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Поновне конвулз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са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Дијастолни притисак 90-109ммХ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Антихипертензи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Смрт, шлог или инфаркт ср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.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Дијастолни П &gt; 115 ммХ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Антихипертензи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Смрт, шлог или инфаркт ср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у резултати клиничке студије значајн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реба израчунати и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CL (confidence limits)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N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L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NNT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е израчунава тако што се узима реципрочна вредност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CL-a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AR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RR = 6.8%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њего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=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3.4%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0.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L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NNT =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100/3.4%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/10.2% =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29.4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0.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у резултати клиничке студије значајн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ако израчунат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NT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ако у студији дају као резултат само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ds ratio (OR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 основу следеће формул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NT =</a:t>
            </a:r>
            <a:r>
              <a:rPr b="0" lang="en-US" sz="3200" spc="-1" strike="noStrike">
                <a:solidFill>
                  <a:srgbClr val="000000"/>
                </a:solidFill>
                <a:latin typeface="YUDutchR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1-[C x (1-OR)]}/[(1-C) x C x (1-OR)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=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честалост појаве која се ле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е резултати валидне и значајне студије могу применити код нашег пацијент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е резултати могу применити код нашег пацијент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Да ли је наш пацијент исувише различит од оних у студији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Колика ће бити корист од терапије за нашег пацијент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ће нови третман и његове последице задовољити вредности и жеље нашег пацијент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21:18:48Z</dcterms:created>
  <dc:creator>Slobodan Jankovic</dc:creator>
  <dc:description/>
  <dc:language>en-US</dc:language>
  <cp:lastModifiedBy>Slobodan Jankovic</cp:lastModifiedBy>
  <dcterms:modified xsi:type="dcterms:W3CDTF">2014-07-12T17:25:10Z</dcterms:modified>
  <cp:revision>59</cp:revision>
  <dc:subject/>
  <dc:title>Slide 1</dc:title>
</cp:coreProperties>
</file>